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9020A-224F-4DC9-BDCC-7FEB09683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830EE-8932-4283-A3EB-321631CF4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C3CC1-9A45-44A3-AAEA-67094CFCE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F12E9-13EE-45C6-BA31-0440F6C29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E8500-9808-497E-AB01-A6F927A1B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86DF4-C7A5-4DC1-9CAE-B3C84EFF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4537B-B0D8-407F-A0E6-1B58E6C33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E637E-B3D2-47B0-BA2E-797DA905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759A1-922F-4860-94E5-F91C4A63A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AAF3-96C1-4027-A037-F787D2BEC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23AC-2FF3-4D6A-BA64-AE76222A0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9349-5ECF-46EB-A56C-576CC9BD2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C366-FB70-4498-B960-96F2A5891C04}"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5. HAFTA </a:t>
            </a: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İyi bir ana düşünce cümlesinde şu özellikler bulun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onu değil düşünce belirtmelidi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romanı” konu, ana düşünce değil.</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köy ve köylü sorununa değinen gerçekçi bir romandır.” Ana düşünce</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Açık ve özlü ol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Açık ve anlaşılır olmalı; farklı yorumlara yol açma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liştirilmeye uygun ol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 Asya ve Avrupa’yı birbirine bağlar.” Geliştirmeye uygun değil.</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nın Asya ve Avrupa’yı birbirine bağlamasının askeri yönden değeri büyüktür.” Geliştirmeye uygun.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3. YARDIMCI DÜŞÜNCELER: </a:t>
            </a:r>
            <a:r>
              <a:rPr b="0" lang="tr-TR" sz="2200" spc="-1" strike="noStrike">
                <a:solidFill>
                  <a:srgbClr val="000000"/>
                </a:solidFill>
                <a:latin typeface="Calibri"/>
              </a:rPr>
              <a:t>Konuyu açıklamaya ve ana düşünceyi buldurmaya yarayan cümlelere denir. Bir paragrafta bir ana düşünce olmasına karşın birden fazla yardımcı düşünce bulunu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ler, paragrafta, tanımlama, örnekleme, karşılaştırma v.b. gibi tekniklerle dile getir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 “Yazar konunun açıklamasını yaparken hangi ayrıntılardan yararlanıyor?” sorusunun cevabı bulunarak elde edil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ÖRNEK:</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Yetişkin bir insanın kelime hazinesi aile çevresi dışındaki ilişkilerden de etkilenir. Çocuklukta görüldüğü gibi annenin dilindeki ses özellikleri korunsa bile öğrenim, iş, meslek ilişkileri, hatta evlilik sonucunda başka çevrelerden kimselerle birlikte yaşama dolayısıyla, kelime hazinesi büyük ölçüde değişmeye uğrar. Bu yüzden yetişkin insanın dil, kelime hazinesi, seçilen sözcükler açısından annenin dilinden farklı olabil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a düşünce: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Yardımcı düşüncel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840" y="-360"/>
            <a:ext cx="789300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na düşünce: </a:t>
            </a:r>
            <a:r>
              <a:rPr b="0" lang="tr-TR" sz="2200" spc="-1" strike="noStrike">
                <a:solidFill>
                  <a:srgbClr val="000000"/>
                </a:solidFill>
                <a:latin typeface="Calibri"/>
              </a:rPr>
              <a:t>“İnsanın kelime hazinesi, ilişkilerine bağlı olarak değiş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Yardımcı düşünceler</a:t>
            </a:r>
            <a:r>
              <a:rPr b="0" lang="tr-TR" sz="2200" spc="-1" strike="noStrike">
                <a:solidFill>
                  <a:srgbClr val="000000"/>
                </a:solidFill>
                <a:latin typeface="Calibri"/>
              </a:rPr>
              <a:t>:</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Dil, başlangıçta yakın çevrelerden öğren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İnsan yaşlandıkça, kelime hazinelerindeki değişme az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Anneden öğrenilen dil, toplumsal ilişkilerde yetersiz k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Kişinin dil gelişiminde ailenin önemli yeri v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2560" y="0"/>
            <a:ext cx="8715240" cy="485784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4.PARAGRAFIN YAPIS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ın, şekil yönüyle cümleler topluluğu olduğunu belirtmiştik. İşte bu cümleler anlam ve anlatım özellikleri bakımından giriş, gelişme ve sonuç cümlesi olarak </a:t>
            </a:r>
            <a:r>
              <a:rPr b="0" lang="tr-TR" sz="2000" spc="-1" strike="noStrike">
                <a:solidFill>
                  <a:srgbClr val="ff0000"/>
                </a:solidFill>
                <a:latin typeface="Calibri"/>
              </a:rPr>
              <a:t>ÜÇ</a:t>
            </a:r>
            <a:r>
              <a:rPr b="0" lang="tr-TR" sz="2000" spc="-1" strike="noStrike">
                <a:solidFill>
                  <a:srgbClr val="000000"/>
                </a:solidFill>
                <a:latin typeface="Calibri"/>
              </a:rPr>
              <a:t> bölümde incelenir.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ff0000"/>
                </a:solidFill>
                <a:latin typeface="Calibri"/>
              </a:rPr>
              <a:t>Karikatüristler, karikatürlerinin sadece gazete ve dergi sayfalarında yer almasından yakınıyorlar.</a:t>
            </a:r>
            <a:r>
              <a:rPr b="0" lang="tr-TR" sz="2000" spc="-1" strike="noStrike">
                <a:solidFill>
                  <a:srgbClr val="000000"/>
                </a:solidFill>
                <a:latin typeface="Calibri"/>
              </a:rPr>
              <a:t> Bu yüzden en iyi karikatürlerinin bile zamanla unutulup gittiğini söylüyorlar. Karikatürlerinin, gazete ve dergi sayfalarından evlerin galerilerin duvarlarına çıkmasını, kitaplarda toplanmasını istiyorlar. Ancak bu yolla adlarının unutulmayacağına, yaşayacaklarına inanıyor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3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Giriş cümlelerinin özellikler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Konunu ortaya konduğu cüml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Genelden özele doğru dizilen paragraflarda ana düşünceyi yansıt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Özelden genele doğru dizilen paragraflarda konuyu v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Dilden ve düşünce yönünden kendinden sonra gelen cümlelerle bağlantılıd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Böyle, üstelik, bununla beraber, nitekim… v.b. gibi bağlantı sözleriyle başlayamaz.</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Karikatüristler, karikatürlerinin sadece gazete ve dergi sayfalarında yer almasından yakınıyorlar. </a:t>
            </a:r>
            <a:r>
              <a:rPr b="0" lang="tr-TR" sz="2200" spc="-1" strike="noStrike">
                <a:solidFill>
                  <a:srgbClr val="ff0000"/>
                </a:solidFill>
                <a:latin typeface="Calibri"/>
              </a:rPr>
              <a:t>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000000"/>
                </a:solidFill>
                <a:latin typeface="Calibri"/>
              </a:rPr>
              <a:t>Ancak bu yolla adlarının unutulmayacağına, yaşayacaklarına inanıyo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Gelişme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iriş cümlesinde verilen cümlenin açıklığa kavuşturulmasını amaçla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biri dil ve düşünce bakımından diğer cümleler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den genele doğru dizilen paragraflarda gelişme cümlelerinden biri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arşılaştırma, örnekleme, tanık gösterme, benzetme gibi yöntemlere en çok gelişme cümlelerinde rastlan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
        <p:nvSpPr>
          <p:cNvPr id="60" name="3 Dikdörtgen"/>
          <p:cNvSpPr/>
          <p:nvPr/>
        </p:nvSpPr>
        <p:spPr>
          <a:xfrm>
            <a:off x="357120" y="214200"/>
            <a:ext cx="7962840" cy="438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Arial"/>
                <a:ea typeface="Arial"/>
              </a:rPr>
              <a:t>	</a:t>
            </a:r>
            <a:r>
              <a:rPr b="0" lang="tr-TR" sz="2200" spc="-1" strike="noStrike">
                <a:solidFill>
                  <a:srgbClr val="ff0000"/>
                </a:solidFill>
                <a:latin typeface="Arial"/>
                <a:ea typeface="Arial"/>
              </a:rPr>
              <a:t>ÖRNEK:</a:t>
            </a:r>
            <a:endParaRPr b="0" lang="en-US" sz="22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	</a:t>
            </a:r>
            <a:r>
              <a:rPr b="0" lang="tr-TR" sz="2200" spc="-1" strike="noStrike">
                <a:solidFill>
                  <a:srgbClr val="000000"/>
                </a:solidFill>
                <a:latin typeface="Arial"/>
                <a:ea typeface="Arial"/>
              </a:rPr>
              <a:t>“</a:t>
            </a:r>
            <a:r>
              <a:rPr b="0" lang="tr-TR" sz="2200" spc="-1" strike="noStrike">
                <a:solidFill>
                  <a:srgbClr val="000000"/>
                </a:solidFill>
                <a:latin typeface="Arial"/>
                <a:ea typeface="Arial"/>
              </a:rPr>
              <a:t>Karikatüristler, karikatürlerinin sadece gazete ve dergi sayfalarında yer almasından yakınıyorlar. 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ff0000"/>
                </a:solidFill>
                <a:latin typeface="Arial"/>
                <a:ea typeface="Arial"/>
              </a:rPr>
              <a:t>Ancak bu yolla adlarının unutulmayacağına, yaşayacaklarına inanıyor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latımı oluşturan en önemli ögelerden biri paragraftır. Sözcük nasıl bir kavram birimi, cümle nasıl bir yargı birimi ise paragrafta bir düşünce birimid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onuşmaya hazırlanırken, bir konuda yazarken düşüncemizi belli noktalarda yoğunlaştırırız. İşte düşüncemizi yoğunlaştırdığımız bu bölümlerin her birine paragraf den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 bir düşünceyle ilgili cümleler topluluğu, bir ana düşünceyi açıklayan cümleler kümesi, bir düşünce birimi olarak da tanımlanabil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20" y="214200"/>
            <a:ext cx="810720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Sonuç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Dil ve düşünce yönünden kendinden önceki cümley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e ilişkin bir yargıyla başlayan paragraflarda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nellikle kendisinden önceki cümleleri özetleyen bir cümle niteliği taşırlar. Bu sebeple özet anlamlı bağlaçlarla başlayan cümleler sonuç cümlesi olmaya daha elverişl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5. PARAGRAFIN BAŞLIĞ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Bir yazıya konulan başlık, o yazının adıdır; o yazının konusu ile ana düşüncesinin en kısa, en çarpıcı özetidir. Bu özellik başlığın konu ve ana düşünce ile çok yakından ilgili olduğunu göstermekt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seçilen bir başlık, hem konuyu hem de ana düşünceyi tümüyle içerdiği için okuyucuya konu ile ana düşüncenin ne ile ilgili olduğunu göst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bir başlık, paragrafın tamamını kapsamalıdır. Paragrafı özetlemeli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4200" y="1425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rPr>
              <a:t>“</a:t>
            </a:r>
            <a:r>
              <a:rPr b="0" i="1" lang="tr-TR" sz="1800" spc="-1" strike="noStrike">
                <a:solidFill>
                  <a:srgbClr val="000000"/>
                </a:solidFill>
                <a:latin typeface="Calibri"/>
              </a:rPr>
              <a:t>Eğitim ve dil, birbirleriyle yakından ilgili iki alan. Kuşkusuz dili kullanmanın tek amacı eğitim değildir; ama eğitimi dilsiz gerçekleştiremezsiniz. Bu yüzden eğitici yayınların dili, açık seçik, doğru ve seslendiği kitlenin düzeyine uygun olmalıdır. Bu koşullara sahip olmayan bir kitap, içindeki bilgiler ne kadar yararlı olursa olsun, işlevini yerine getiremez. Aktarılamayan, anlaşılmayan bilgi de bir bakıma yok sayılır.”</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800" spc="-1" strike="noStrike">
                <a:solidFill>
                  <a:srgbClr val="000000"/>
                </a:solidFill>
                <a:latin typeface="Calibri"/>
              </a:rPr>
              <a:t>	</a:t>
            </a:r>
            <a:r>
              <a:rPr b="0" lang="tr-TR" sz="1800" spc="-1" strike="noStrike">
                <a:solidFill>
                  <a:srgbClr val="000000"/>
                </a:solidFill>
                <a:latin typeface="Calibri"/>
              </a:rPr>
              <a:t>Yukarıdaki paragrafa en uygun başlığı bulmaya çalışalım!!! </a:t>
            </a: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A. Eğitim ve Dil</a:t>
            </a:r>
            <a:r>
              <a:rPr b="0" lang="tr-TR" sz="1800" spc="-1" strike="noStrike">
                <a:solidFill>
                  <a:srgbClr val="000000"/>
                </a:solidFill>
                <a:latin typeface="Calibri"/>
              </a:rPr>
              <a:t>	</a:t>
            </a:r>
            <a:r>
              <a:rPr b="0" lang="tr-TR" sz="1800" spc="-1" strike="noStrike">
                <a:solidFill>
                  <a:srgbClr val="000000"/>
                </a:solidFill>
                <a:latin typeface="Calibri"/>
              </a:rPr>
              <a:t>B. Kitaplar ve Toplum </a:t>
            </a:r>
            <a:r>
              <a:rPr b="0" lang="tr-TR" sz="1800" spc="-1" strike="noStrike">
                <a:solidFill>
                  <a:srgbClr val="000000"/>
                </a:solidFill>
                <a:latin typeface="Calibri"/>
              </a:rPr>
              <a:t>	</a:t>
            </a:r>
            <a:r>
              <a:rPr b="0" lang="tr-TR" sz="1800" spc="-1" strike="noStrike">
                <a:solidFill>
                  <a:srgbClr val="000000"/>
                </a:solidFill>
                <a:latin typeface="Calibri"/>
              </a:rPr>
              <a:t>C. Eğitici Yayınlarda İçerik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D. Eğitimin Amacı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E. Eğitici Yayınların Dili</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6. PARAGRAFTA ANLATIM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Yapısı sağlam kurulmuş bir paragrafta “özlülük, yalınlık, akıcılık, doğallık, özgünlük, inandırıcılık, etkileyicilik…v.b. gibi temel özelliklerin bulunması gerek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paragrafta bu özelliklerin tamamının bulunması beklenemez; ancak bir paragraf bunlardan ne kadar çoğunu içerirse kuruluşu da o denli sağlam olur.  Bu anlatım özelliklerinden bazıları şun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 Özlülük: </a:t>
            </a:r>
            <a:r>
              <a:rPr b="0" lang="tr-TR" sz="2200" spc="-1" strike="noStrike">
                <a:solidFill>
                  <a:srgbClr val="000000"/>
                </a:solidFill>
                <a:latin typeface="Calibri"/>
              </a:rPr>
              <a:t>Duygunu ya da isteğin en kestirme yollardan ifade edilmes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Örneğin, atasözü ve deyimlerde özlülük vardır. Gereksiz kelimelerden arındırılmış anlatımlar özlüdür. Bu anlatım özelliğini içeren paragraflarda ayrıntılara yer verilmez, anlatılmak istenen en kestirme yolla ver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Her yerde öykü yazabiliyorum. Tıka basa dolu bir otobüste öylesine yalnızlaşabiliyorum ki o anda yakaladığım imgeden öykümün oluşabileceğini hissedip seviniyorum. İnsanlara bakıyor, yüzlerindeki ifadeleri değerlendiriyorum. Özellikle iş dönüşü insanlar içlerine kapanıyor, daha çok kendi iç dünyalarında yaşıyorlar. Her insanın öyküsü yüzüne yansıyor. Bu da benim en iyi malzemem olu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 Yalınlık: </a:t>
            </a:r>
            <a:r>
              <a:rPr b="0" lang="tr-TR" sz="2200" spc="-1" strike="noStrike">
                <a:solidFill>
                  <a:srgbClr val="000000"/>
                </a:solidFill>
                <a:latin typeface="Calibri"/>
              </a:rPr>
              <a:t>Duygunun, düşüncenin ya da gerçeğin sade, süssüz, gösterişsiz biçimde anlatımına denir. Bilimsel ve öğretici yazılarda bu anlatım özelliğine sıkça rastlanır. Sanat metinlerinde ise bu anlatım özelliğine pek yer verilme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Değer, nesnelerin ve olayların insana göre önemini belirleyen niteliktir. Başka bir deyişle, bir şeye insan tarafından uygun görülen karşılıktır. Belirli koşulların oluştuğu bir duruma bağlı olduğu için değişken; bireyin yetişmesiyle ilgili olduğu için de durağandır. Bunlara bakarak değerleri ruhbilimsel, törebilimsel, sanatsal değerler diye sınıflandırabiliri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c. Akıcılık: </a:t>
            </a:r>
            <a:r>
              <a:rPr b="0" lang="tr-TR" sz="2200" spc="-1" strike="noStrike">
                <a:solidFill>
                  <a:srgbClr val="000000"/>
                </a:solidFill>
                <a:latin typeface="Calibri"/>
              </a:rPr>
              <a:t>Duygunun, düşüncenin ya da bir gerçeğin anlatımında paragrafı oluşturan cümlelerin söyleniş ve okunuşundaki kolaylık ve rahatlığa denir. Akıcılık, hem seçilen sözlerin ses özelliğine hem de cümle kuruluşundaki doğallığa dayan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Bugün çocuklarla saatlerce ders çalıştım. Çarşıya gittim, yazdığım onca mektubu tek tek temize çektim. Bu kadar çok işi bir günde nasıl bitirebildiğime ben de şaşıyorum. Bu becerimi, böyle mekanik uğraşlardan çok, daha coşkulu, daha değerli şeyler için kullansaydım… Öyküler yazıp resimler yapsaydım ne iyi olurdu!”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u="sng">
                <a:solidFill>
                  <a:srgbClr val="ff0000"/>
                </a:solidFill>
                <a:uFillTx/>
                <a:latin typeface="Calibri"/>
              </a:rPr>
              <a:t>İyi ve sağlam bir paragrafta şu özellikler bulun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aragrafı oluşturan cümleler; dil, düşünce ve anlatım özelliği yönüyle birbirine bağlı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Cümleler belli bir düşünceyi (ana düşünce) anlat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cümle anlatım bakımından doğru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Paragraftaki cümleler ana fikir cümlesini destekler özellikte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d. Özgünlük: </a:t>
            </a:r>
            <a:r>
              <a:rPr b="0" lang="tr-TR" sz="2200" spc="-1" strike="noStrike">
                <a:solidFill>
                  <a:srgbClr val="000000"/>
                </a:solidFill>
                <a:latin typeface="Calibri"/>
              </a:rPr>
              <a:t>Duygunun, düşüncenin, kavramın ya da bir gerçeğin anlatımının, anlatana özgü nitelikler taşımasına denir. Özgün yazılarda sanatçı, başkasının yazılarından farklı ürünler ortaya koyar. Kendini kanıtlamış, kendine bir yol çizebilmiş sanatçıların anlatımı özgünd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e. Etkileyicilik: </a:t>
            </a:r>
            <a:r>
              <a:rPr b="0" lang="tr-TR" sz="2200" spc="-1" strike="noStrike">
                <a:solidFill>
                  <a:srgbClr val="000000"/>
                </a:solidFill>
                <a:latin typeface="Calibri"/>
              </a:rPr>
              <a:t>Okuyucu veya dinleyicide fikrî değişiklik yapmak amacıyla yazarın etkileme gücünü kullanmasıdır. Çoğu sanat metinlerinde bu tür özellik mevcuttur. Zaten sanat metinlerinin üne kavuşmasını sağlayan da etkileyicilik özellikleri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Ve serin serviler altında kalan kabrind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Her seher bir gül açar, her gece bir bülbül öte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İlk dizede geçen “serin” kelimesi evvelce “siyah”tı. Siyah’ı güzel bulmuyordum. Günlerce bekledim. Bir gün Erenköy’den dönüyordum. Hem yürüyor hem de şiirdeki “siyah” kelimesini düşünüyordum. Derken birden bire “serin” kelimesi aklıma geldi, şiir tamamlanmıştı.</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PARAGRAF TÜR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Ele aldığı konu, konuya bakış açısı bakımından paragrafları şu şekilde sınıflandırabiliriz:</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konuyu belli bir bakış açısıyla vermeye çalışan paragraflardır. Bu tür paragraflarda savunulan düşünce çeşitli yönleriyle tartışılır. Makale, fıkra, eleştiri v.b. gibi yazı türlerinde sıkça kullanılırlar. Genellikle tartışmacı ve açıklayıcı anlatım şekilleriyle k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Bir Türk, Dede Korkut’u, Köroğlu’nu özümsememişse, o kültüre varamamışsa, Türk masallarını, Türk romanlarını hatta Aşk-ı Memnu romanını bilmiyorsa, yalnız Batı’yı örnek alarak roman yazamaz. Önce kendi toprağının yarattığı kültürle özdeşleşmesi gerekir. Ayrıca dünyada klasik romanın vardığı son aşamayı da bilmek zorunda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Okuyucunun bir olay içinde yaşatılmak ya da bir duyguya ortak edilmek istendiği paragraflardır. Bu tür paragraflar, genellikle öyküleyici ve betimleyici anlatım yöntemleriyle oluşt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Yıllar önce Ankara’da bir köy okuluna gitmiştik. Piyanonun başında kafası tıraşlı, yüzü güneş yanığı, on dört ,on beş yaşlarında görünen bir köylü çocuğu vardı. Mozart’ı ustaca çalıyordu. Heyecandan donup kalmıştım. Okul müdürü durumumu anlamıştı. Yanıma yaklaşarak sırtımı okşadı. İkimiz de bir tek söz söylemedik. Çalınan parçayı, gözlerimizdeki damlalarla, sonuna kadar dinledi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2560" y="142560"/>
            <a:ext cx="8785080" cy="460836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ÖZET</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tanım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İyi bir paragrafta bulunması gerekli özellik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konu.</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a düşünce.</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yardımcı düşünce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yapısı. Giriş cümlesi, gelişme cümlesi, sonuç cümlesi ve özellikleri.</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başlığ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latım özellikleri. Yalınlık, özlülük, akıcılık, özgünlük, etkileyicilik.</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 türleri: Düşünce paragrafı, olay-duygu paragraf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42560" y="142560"/>
            <a:ext cx="7964280" cy="4608360"/>
          </a:xfrm>
          <a:prstGeom prst="rect">
            <a:avLst/>
          </a:prstGeom>
          <a:noFill/>
          <a:ln w="0">
            <a:noFill/>
          </a:ln>
        </p:spPr>
        <p:txBody>
          <a:bodyPr lIns="68760" rIns="68760" tIns="34200" bIns="34200" anchor="t">
            <a:noAutofit/>
          </a:bodyPr>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Emek Matbaası</a:t>
            </a:r>
            <a:r>
              <a:rPr b="0" i="1" lang="tr-TR" sz="2000" spc="-1" strike="noStrike">
                <a:solidFill>
                  <a:srgbClr val="000000"/>
                </a:solidFill>
                <a:latin typeface="Calibri"/>
              </a:rPr>
              <a:t>,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ÖRSKAYA, İlyas, </a:t>
            </a:r>
            <a:r>
              <a:rPr b="0" i="1" lang="tr-TR" sz="2000" spc="-1" strike="noStrike">
                <a:solidFill>
                  <a:srgbClr val="000000"/>
                </a:solidFill>
                <a:latin typeface="Calibri"/>
              </a:rPr>
              <a:t>ÖSS Türkçe</a:t>
            </a:r>
            <a:r>
              <a:rPr b="0" lang="tr-TR" sz="2000" spc="-1" strike="noStrike">
                <a:solidFill>
                  <a:srgbClr val="000000"/>
                </a:solidFill>
                <a:latin typeface="Calibri"/>
              </a:rPr>
              <a:t>, Final Yay., İstanbul 20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79280" y="339840"/>
            <a:ext cx="8035920" cy="468000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r>
              <a:rPr b="0" lang="tr-TR" sz="1700" spc="-1" strike="noStrike">
                <a:solidFill>
                  <a:srgbClr val="ff0000"/>
                </a:solidFill>
                <a:latin typeface="Calibri"/>
              </a:rPr>
              <a:t>1. PARAGRAFTA KONU: </a:t>
            </a:r>
            <a:r>
              <a:rPr b="0" lang="tr-TR" sz="1700" spc="-1" strike="noStrike">
                <a:solidFill>
                  <a:srgbClr val="000000"/>
                </a:solidFill>
                <a:latin typeface="Calibri"/>
              </a:rPr>
              <a:t>Yazara düşüncelerini iletme imkanı veren konudur. Yazıda üzerinde durulan husustur. Konusu olmayan bir yazı amaçsız bir anlatımdı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azen konu oldukça geniş boyutlu olabilir.  Yazı yazan kişi, bir konuyu her yönüyle ele alabileceği gibi, bir konunun yalnız bir yönünü ele alabil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Örneğin, “sanat” konusu geniş bir konudur ve yazar bu konuyu çeşitli şekillerde sınırlandırabilir. Sanat ve zanaat farkı, çeşitli sanat dalları gibi…</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ir paragrafın konusunu bulabilmek için “ne üzerinde duruluyor, ne hakkında söz söyleniyor sorularına cevap verilmelid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13840" y="214200"/>
            <a:ext cx="7929720" cy="4160880"/>
          </a:xfrm>
          <a:prstGeom prst="rect">
            <a:avLst/>
          </a:prstGeom>
          <a:noFill/>
          <a:ln w="0">
            <a:noFill/>
          </a:ln>
        </p:spPr>
        <p:txBody>
          <a:bodyPr lIns="68760" rIns="68760" tIns="34200" bIns="34200" anchor="t">
            <a:noAutofit/>
          </a:bodyPr>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	</a:t>
            </a:r>
            <a:r>
              <a:rPr b="0" lang="tr-TR" sz="1900" spc="-1" strike="noStrike">
                <a:solidFill>
                  <a:srgbClr val="ff0000"/>
                </a:solidFill>
                <a:latin typeface="Calibri"/>
              </a:rPr>
              <a:t>ÖRNEK: </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ff0000"/>
                </a:solidFill>
                <a:latin typeface="Calibri"/>
              </a:rPr>
              <a:t>	</a:t>
            </a:r>
            <a:r>
              <a:rPr b="0" lang="tr-TR" sz="1900" spc="-1" strike="noStrike">
                <a:solidFill>
                  <a:srgbClr val="000000"/>
                </a:solidFill>
                <a:latin typeface="Calibri"/>
              </a:rPr>
              <a:t>“</a:t>
            </a:r>
            <a:r>
              <a:rPr b="0" lang="tr-TR" sz="1900" spc="-1" strike="noStrike">
                <a:solidFill>
                  <a:srgbClr val="000000"/>
                </a:solidFill>
                <a:latin typeface="Calibri"/>
              </a:rPr>
              <a:t>Şehir içi otobüs yolcularına dikkatlice bakınca neler görürüz? Yolculardan kimileri konuşma gereksinimi duyarlar. Yanlarına oturan yabancıya, öteki yolcuları rahatsız edecek biçimde aile içi sorunlarını anlatmaktan çekinmezler. Kimileri yorgunluktan bitkin, bir an önce gideceği yere varma ya da kalkacak birinin yerine oturabilme telaşındadır. Oturduğu yerde uyuyan yolcular da vardır. Ütüsüz, yıpranmış giysililer; boyasız çamurlu ayakkabılılar da az değildir. Eğer öğrencisi bol bir otobüse bindiyseniz, o zaman gülen yüzler görebilir, içinizin aydınlandığını fark edebilirsiniz.”</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u paragrafta şu konulara değinilmişt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Giyim kuşamına önem vermeyenler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Kimilerinin görgü kurallarına uymadıklarına</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Gençlerin öteki yolcular üzerindeki etkilerin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Sıkıntılarını yansıtan bir tutum içinde oldukların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PARAGRAFTA ANA DÜŞÜNCE: </a:t>
            </a:r>
            <a:r>
              <a:rPr b="0" lang="tr-TR" sz="2200" spc="-1" strike="noStrike">
                <a:solidFill>
                  <a:srgbClr val="000000"/>
                </a:solidFill>
                <a:latin typeface="Calibri"/>
              </a:rPr>
              <a:t>Parçada asıl vurgulanmak istenen, konuyla ilgili olarak okuyucuya kavratılmaya çalışılan düşüncedir. Yazarı yazı yazmaya iten amaçt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Bu parçada yazarın asıl anlatmak istediği nedir?” sorusuna bulacağımız cevap ana düşünceyi bulmamıza yardım edecektir.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na düşünce cümlesi paragrafın başında, sonunda veya paragrafın tümüne sindirilmiş ol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u="sng">
                <a:solidFill>
                  <a:srgbClr val="ff0000"/>
                </a:solidFill>
                <a:uFillTx/>
                <a:latin typeface="Calibri"/>
              </a:rPr>
              <a:t>Tiyatro, sınırları o kadar geniş bir bilgi ve çalışma alanı ki insanın ömrü değil, yüz ömrü bile olsa, onu bütünüyle öğrenmeye yetmez</a:t>
            </a:r>
            <a:r>
              <a:rPr b="0" lang="tr-TR" sz="2200" spc="-1" strike="noStrike">
                <a:solidFill>
                  <a:srgbClr val="000000"/>
                </a:solidFill>
                <a:latin typeface="Calibri"/>
              </a:rPr>
              <a:t>.Öyle ki insan, bütün bir yaşamını tiyatroya ayırmış olsa da ömrünün sonunda tıpkı başlangıçtaki gibi hoş ve bilgisiz görür kendini. Çünkü hayat, nasıl yeni günler getiriyorsa, yeni günler de tiyatroya yeni yeni üsluplar, yeni yeni düşünceler, yeni yeni deneyimler getiri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Dil, bir toplumu başka bir toplumdan ayıran en önemli ögedir. Şair ise dildeki sözcüklere yeni anlamlar, çağdaş yorumlar katan kişidir. Bir toplum, yeni şairlerini anladığı ölçüde daha çağdaş bir toplum olma çizgisine ulaşır. Kısacası </a:t>
            </a:r>
            <a:r>
              <a:rPr b="0" lang="tr-TR" sz="2200" spc="-1" strike="noStrike" u="sng">
                <a:solidFill>
                  <a:srgbClr val="ff0000"/>
                </a:solidFill>
                <a:uFillTx/>
                <a:latin typeface="Calibri"/>
              </a:rPr>
              <a:t>şair, toplumun dilini, dolaylı olarak da duyarlılığını zenginleştirir ve canlı tut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2:03:45Z</dcterms:created>
  <dc:creator>hsn</dc:creator>
  <dc:description/>
  <dc:language>en-US</dc:language>
  <cp:lastModifiedBy>pc</cp:lastModifiedBy>
  <dcterms:modified xsi:type="dcterms:W3CDTF">2018-04-23T19:23:21Z</dcterms:modified>
  <cp:revision>80</cp:revision>
  <dc:subject/>
  <dc:title>3.HAFTA-CÜMLE TÜRLERİ VE CÜMLE ÇÖZÜMLEMELERİ</dc:title>
</cp:coreProperties>
</file>