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19A4F-DBBA-4BCA-A090-5799BD6F7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525B5-85F4-4AFF-88EA-983BF573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EC47-96DB-4A0F-A9C6-346053E62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DDA34-8BEF-47D8-B917-13617CABD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7D5B6-7849-442D-A512-6F921ED90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4E6D4-A3E0-4F6F-964B-07F0342D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B5481-9B4D-4530-90CE-468166BE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A2E0-6BF4-4A33-9A3B-062E49A6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A0C34-1828-4CED-B551-266074EB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C32C-1E30-467E-885D-9644E0D7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AD07-D85D-45D4-8F6E-36A86DF1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1A7E-FC90-400B-BA3D-6761057BD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BE22-5E1C-4183-B56B-F55331AAF131}"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1122120"/>
            <a:ext cx="6885000" cy="3314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0" spc="-1" strike="noStrike">
                <a:solidFill>
                  <a:srgbClr val="000000"/>
                </a:solidFill>
                <a:latin typeface="Calibri Light"/>
              </a:rPr>
              <a:t>BİLİMSEL YAZILARIN HAZIRLANMASINDA UYULACAK KURALLAR</a:t>
            </a:r>
            <a:endParaRPr b="0" lang="en-US" sz="6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1640" y="333000"/>
            <a:ext cx="7921440" cy="583236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6. Yazma</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Yazmaya başlamadan önce yazının içeriği kadar biçiminin de önemli olduğu unutulmamalıdır. Günümüzde neredeyse bütün araştırma yazıları, kitaplar bilgisayarla yazıldığı için sayfa düzenini, satır aralıklarını, paragrafları, yazı tipini değişik şekillerde kolayca ayarlamak mümkündür</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raştırma metni yazılırken önce yazı taslağı hazırlanır: Plânlama ve düzenleme bittikten sonra fişlerdeki bilgiler bölüm bölüm yazılmaya başlanır. İlk taslağın yazılmasındaki asıl amaç düşünce akışını düzenli bir biçimde sürdürmektir; üslûp güzelliği ve uygun kelimeler seçme ikinci plândadır. </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Yazı taslağında gerekli değişiklikler yapıldıktan sonra asıl metnin yazılmasına geçilir. </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raştırma yazısında ön söz, içindekiler, kısaltmalar, tablolar, giriş, ana bölümler, ekler, kaynaklar, dizin gibi her bölüme yeni bir sayfadan başlanır.</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r araştırma yazısında metininin bölümleri şunlardır: </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1640" y="620280"/>
            <a:ext cx="7632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a) Ön söz</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yazıları ön sözle başlar. Her ne kadar yazının başında olsa da ön sözün sonra yazılması uygundur. Ön sözde araştırmanın yapılış sebebi, amacı, içeriği, yöntemi, özel açıklamalar, (varsa) emeği geçenlere teşekkür yer alır.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26560" y="620280"/>
            <a:ext cx="770580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b) Kısaltmala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inde kullanılan açıklamalar, kısaltmalar, işaretler varsa bunlar ön sözden sonra içindekilerden önce alfabetik sıraya göre yaz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26560" y="620280"/>
            <a:ext cx="770580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c) İçindekile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indeki ana bölümler ve bu bölümlere ait alt bölümler önem sırasına göre içindekilerde gösterilir. Bu bölüm, araştırmanın içeriği hakkında genel bilgiler ver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26920" y="620280"/>
            <a:ext cx="7777440" cy="5977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 Giriş</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iriş ayrı bir bölüm olmadığı için I. Bölüm altına Giriş yazılmaz. Girişte o alanda yapılan incelemelerin, araştırmaların durumu belirtilir, ilerlemeler gösterilir, doldurulamayan boşluklar, eksiklikler anlatılır, gerektiğinde yapılan araştırmalar eleştirilir. Giriş, araştırmanın açılışı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87280" y="620280"/>
            <a:ext cx="7345440" cy="5256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e) Asıl metin bölümü</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konusu bölümler hâlinde düzenli olarak bu bölümde anlatılır. Ana bölümler ve alt bölümler, başlıkların yazılış biçimi ve numaralama şekliyle birbirinden ayrılır.</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hangi alanla ilgili olursa olsun okuyucuların anlatılanları kolayca kavrayabilmeleri için kelimelerin seçimine, cümle kuruluşuna, paragrafların usulüne göre oluşturulmasına ve bunlar arasında uyum olmasına özen gösterilir.</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000" y="404280"/>
            <a:ext cx="7848360" cy="6193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alibri"/>
              </a:rPr>
              <a:t>	</a:t>
            </a:r>
            <a:r>
              <a:rPr b="0" lang="tr-TR" sz="1400" spc="-1" strike="noStrike">
                <a:solidFill>
                  <a:srgbClr val="000000"/>
                </a:solidFill>
                <a:latin typeface="Calibri"/>
              </a:rPr>
              <a:t>Bilimsel araştırmanın bir gereği olarak yararlanılan kaynaklar, yerler,  alıntılar sayfanın altında dipnotlarla gösterilir. Dipnot numarası araştırmanın başından başlatılabileceği gibi her sayfada 1’den başlatılabili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Dipnotlar aşağıdaki şekilde yazılı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A. von Gabain, Eski Türkçenin Grameri, Çev. Mehmet Akalın, TDK Yay., Ankara, 1988, s. 26.</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Dipnotlar sayfa altında verilmeyip araştırmanın sonunda yer alırsa notlar başlığı altında sıralanı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Ayrıca, dipnot vermek yerine alıntı yapılan eserin künyesi çalışmanın içinde de belirtilebilir. </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RNEK:</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i="1" lang="tr-TR" sz="1400" spc="-1" strike="noStrike">
                <a:solidFill>
                  <a:srgbClr val="000000"/>
                </a:solidFill>
                <a:latin typeface="Calibri"/>
              </a:rPr>
              <a:t>Dünya dillerindeki evrensellikleri tespit, elbette zor ve uzun zaman isteyen bir araştırma konusudur. Her şeyden önce metot belirleme ve data toplama sorunu vardır. Araştırmacı, dillerde evrensel olanı tespit etmek için nasıl bir çalışma yürütmelidir ve veri tabanı nasıl oluşturulmalıdır? Bu konuda farklı yaklaşımlar ve farklı yöntemler olabilir </a:t>
            </a:r>
            <a:r>
              <a:rPr b="1" i="1" lang="tr-TR" sz="1400" spc="-1" strike="noStrike">
                <a:solidFill>
                  <a:srgbClr val="000000"/>
                </a:solidFill>
                <a:latin typeface="Calibri"/>
              </a:rPr>
              <a:t>(Karabulut 2011: 25-26)</a:t>
            </a:r>
            <a:r>
              <a:rPr b="0" i="1" lang="tr-TR" sz="1400" spc="-1" strike="noStrike">
                <a:solidFill>
                  <a:srgbClr val="000000"/>
                </a:solidFill>
                <a:latin typeface="Calibri"/>
              </a:rPr>
              <a:t>.</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endParaRPr b="0" lang="en-US" sz="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6920" y="620280"/>
            <a:ext cx="777744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f) Sonuç</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nin son ve en önemli bölümüdür. Elde edilen bulgular sonuç bölümünde ortaya konur ve bunların yorumu yapılır. Araştırmanın özü, genel nitelikleri sonuçta ortaya konur. Gerekirse araştırmanın bir özeti de verilebilir. Ancak bu pek yapılmaz.</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6560" y="620280"/>
            <a:ext cx="799308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g) Dizin</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nın türüne ve özelliğine göre farklı şekillerde yapılan dizin (indeks), araştırmadan yararlanmayı kolaylaştıran bilgilerin alfabetik listesidir. Dizinde yer alacaklar belli gruplara ayrılamayacaksa genel dizinler yapılır. Dizindeki maddelerin araştırmanın hangi sayfalarında geçtiği yanlarına yaz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640" y="620280"/>
            <a:ext cx="770400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h) Kaynaklar</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Araştırmada yararlanılan veya konuyla ilgili eserlere ait tanıtım bilgileri alfabetik sırayla kaynaklarda (bibliyografyada) belirtilir. Kaynakların nasıl yazılacağı bir esasa bağlanmamış olmakla birlikte kitap bilgisini aşağıdaki şekillerde verilebilir:</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ren, Hasan; </a:t>
            </a:r>
            <a:r>
              <a:rPr b="0" i="1" lang="tr-TR" sz="1700" spc="-1" strike="noStrike">
                <a:solidFill>
                  <a:srgbClr val="000000"/>
                </a:solidFill>
                <a:latin typeface="Calibri"/>
              </a:rPr>
              <a:t>Türklük Bilimi Sözlüğü I Yabancı Türkologlar</a:t>
            </a:r>
            <a:r>
              <a:rPr b="0" lang="tr-TR" sz="1700" spc="-1" strike="noStrike">
                <a:solidFill>
                  <a:srgbClr val="000000"/>
                </a:solidFill>
                <a:latin typeface="Calibri"/>
              </a:rPr>
              <a:t>, Atatürk Kültür, Dil ve Tarih Yüksek Kurumu, TDK Yayınları Sayı: 705, Ankara, 1998, X+350 s.</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ren, Hasan (1998), </a:t>
            </a:r>
            <a:r>
              <a:rPr b="0" i="1" lang="tr-TR" sz="1700" spc="-1" strike="noStrike">
                <a:solidFill>
                  <a:srgbClr val="000000"/>
                </a:solidFill>
                <a:latin typeface="Calibri"/>
              </a:rPr>
              <a:t>Türklük Bilimi Sözlüğü I Yabancı Türkologlar</a:t>
            </a:r>
            <a:r>
              <a:rPr b="0" lang="tr-TR" sz="1700" spc="-1" strike="noStrike">
                <a:solidFill>
                  <a:srgbClr val="000000"/>
                </a:solidFill>
                <a:latin typeface="Calibri"/>
              </a:rPr>
              <a:t>, TDK Yayınları: Ankara.</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971280" y="620280"/>
            <a:ext cx="784836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 çok çeşitlidir ve her birinin yazılış tekniği farklıdır. Bir hikâyenin yazılmasında izlenecek yol ile bir araştırma yazısının (makalenin, tebliğin...) ortaya konmasında izlenecek yol aynı değildir. Araştırma yazılarında düşünce ve araştırma ön plânda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640" y="620280"/>
            <a:ext cx="7848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7. Gözden Geçirme</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tamamlandıktan sonra bir kopyası çıkarılmalı ve metin, ara verilerek birkaç kez okunmalı, yazım yanlışları, dizgi yanlışları düzeltilmeli, (varsa) eksikleri tamamlanmalı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620280"/>
            <a:ext cx="7561440" cy="5977080"/>
          </a:xfrm>
          <a:prstGeom prst="rect">
            <a:avLst/>
          </a:prstGeom>
          <a:noFill/>
          <a:ln w="0">
            <a:noFill/>
          </a:ln>
        </p:spPr>
        <p:txBody>
          <a:bodyPr anchor="t">
            <a:noAutofit/>
          </a:bodyPr>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KAYNAK:</a:t>
            </a:r>
            <a:endParaRPr b="0" lang="en-US" sz="18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KARASOY Yakup, vd. (2001), Üniversiteler İçin Türk Dili ve Kompozisyon Bilgileri, Konya: Selçuk Üniversitesi Yaşatma ve Geliştirme Vakfı Yayınları.</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971280" y="620280"/>
            <a:ext cx="777708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Araştırma Ned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insanın çevresini tanımak ve karşılaştığı problemlere çözüm bulmak, doğruyu ortaya koymak, bilinmeyeni öğrenmek amacıyla yaptığı sistemli çalışma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58920" y="620280"/>
            <a:ext cx="7200720" cy="597708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r>
              <a:rPr b="0" lang="tr-TR" sz="2100" spc="-1" strike="noStrike">
                <a:solidFill>
                  <a:srgbClr val="000000"/>
                </a:solidFill>
                <a:latin typeface="Calibri"/>
              </a:rPr>
              <a:t>Araştırma yapılacak alanın özelliğine göre az çok değişiklikler olmakla birlikte bilimsel araştırmalarda genellikle şu sıra izlenir:</a:t>
            </a:r>
            <a:br>
              <a:rPr sz="2100"/>
            </a:br>
            <a:br>
              <a:rPr sz="2100"/>
            </a:br>
            <a:r>
              <a:rPr b="0" lang="tr-TR" sz="2100" spc="-1" strike="noStrike">
                <a:solidFill>
                  <a:srgbClr val="000000"/>
                </a:solidFill>
                <a:latin typeface="Calibri"/>
              </a:rPr>
              <a:t>1. Konuyu seçmek ve sınırlandırmak</a:t>
            </a:r>
            <a:br>
              <a:rPr sz="2100"/>
            </a:br>
            <a:r>
              <a:rPr b="0" lang="tr-TR" sz="2100" spc="-1" strike="noStrike">
                <a:solidFill>
                  <a:srgbClr val="000000"/>
                </a:solidFill>
                <a:latin typeface="Calibri"/>
              </a:rPr>
              <a:t>2. Taslak plân </a:t>
            </a:r>
            <a:br>
              <a:rPr sz="2100"/>
            </a:br>
            <a:r>
              <a:rPr b="0" lang="tr-TR" sz="2100" spc="-1" strike="noStrike">
                <a:solidFill>
                  <a:srgbClr val="000000"/>
                </a:solidFill>
                <a:latin typeface="Calibri"/>
              </a:rPr>
              <a:t>3. Malzeme bulma, kaynak toplama</a:t>
            </a:r>
            <a:br>
              <a:rPr sz="2100"/>
            </a:br>
            <a:r>
              <a:rPr b="0" lang="tr-TR" sz="2100" spc="-1" strike="noStrike">
                <a:solidFill>
                  <a:srgbClr val="000000"/>
                </a:solidFill>
                <a:latin typeface="Calibri"/>
              </a:rPr>
              <a:t>4. Okuma ve not alma</a:t>
            </a:r>
            <a:br>
              <a:rPr sz="2100"/>
            </a:br>
            <a:r>
              <a:rPr b="0" lang="tr-TR" sz="2100" spc="-1" strike="noStrike">
                <a:solidFill>
                  <a:srgbClr val="000000"/>
                </a:solidFill>
                <a:latin typeface="Calibri"/>
              </a:rPr>
              <a:t>5. Notları düzenleme</a:t>
            </a:r>
            <a:br>
              <a:rPr sz="2100"/>
            </a:br>
            <a:r>
              <a:rPr b="0" lang="tr-TR" sz="2100" spc="-1" strike="noStrike">
                <a:solidFill>
                  <a:srgbClr val="000000"/>
                </a:solidFill>
                <a:latin typeface="Calibri"/>
              </a:rPr>
              <a:t>6. Yazma</a:t>
            </a:r>
            <a:br>
              <a:rPr sz="2100"/>
            </a:br>
            <a:r>
              <a:rPr b="0" lang="tr-TR" sz="2100" spc="-1" strike="noStrike">
                <a:solidFill>
                  <a:srgbClr val="000000"/>
                </a:solidFill>
                <a:latin typeface="Calibri"/>
              </a:rPr>
              <a:t>7. Gözden geçirme</a:t>
            </a:r>
            <a:endParaRPr b="0" lang="en-US" sz="21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26560" y="620280"/>
            <a:ext cx="7921800" cy="5472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1. Konuyu Seçmek ve Sınırlandırmak</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alanda bilimsel araştırma yapacak kişi için konunun iyi seçilmesi ve sınırlandırılması son derece önemlidir. Her şeyden önce konu; kişinin ilgi alanında olmalı, onun kişisel anlayışlarına, dünya görüşüne, yeteneklerine, zevklerine uygun olmalı, kaynak sıkıntısının yaşanmayacağı, araştırmaya değer özgün bir nitelikte ol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Konuyu belirledikten sonra araştırma imkânları (ve gerekiyorsa süre de) dikkate alınarak konu sınırlanır. Bir konunun sınırları ne kadar iyi çizilir, daraltılabilirse araştırma o oranda sağlıklı ve ayrıntılı olur. Konunun sınırlanması, genel bir konuyu mümkün olduğu kadar özele indirmek demekt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Örneğin;</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masallarındaki olağanüstü varlıklar oldukça geniş ve genel bir konudur. Bu konu “Keloğlan masallarında devler” şeklinde sınırlanıp daraltılabil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42920" y="620280"/>
            <a:ext cx="7632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Taslak Plân</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nuyu tespit edip sınırlarını çizdikten sonra kaynak (veya malzeme) toplanmaya başlamadan araştırmayı düzenli bir biçimde yürütebilmek için taslak bir plân yapılmalıdır. Bu plân, hangi kaynakların konuyla ilgili, hangilerinin ilgisiz olduğunu ayırmaya ve başka hangi kaynaklara ihtiyaç duyulduğunu göstermeye yarar. Araştırmanın başında bilinenler, sonradan öğrenileceklere göre sınırlı olduğu için yeni bilgiler edindikçe taslak plânda bazı değişiklikler olacakt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900000" y="333000"/>
            <a:ext cx="7920000" cy="6048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3. Malzeme Bulma, Kaynak Toplama</a:t>
            </a:r>
            <a:endParaRPr b="0" lang="en-US" sz="2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raştırmada yararlanılacak malzemeler ve kaynaklar konunun özelliğine göre değişir. Tarihî değeri olan bir vazo, arkeoloğun; bir bölgenin bitki örtüsü, bir ziraatçının; toplumsal olaylar, bir sosyoloğun; dildeki herhangi bir gelişme ya da değişme, bir filoloğun malzemesidir. </a:t>
            </a:r>
            <a:endParaRPr b="0" lang="en-US" sz="2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raştırmacı ayrım yapmadan, mümkün olduğu kadar bütün kaynakları incelemeye çalışmalıdır. Konuyla ilgili hangi kaynakların olduğunu öğrenmek için ilk olarak büyük ansiklopedilerin ilgili maddelerin altında yer alan bibliyografyaya bakılabilir. Konuyla ilgili bir kitabın bibliyografya kısmı incelene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5640" y="620280"/>
            <a:ext cx="8137440" cy="5472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4. Okuma ve Not Alma</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yla ilgili kaynaklar, önem ve ilgi sırasına göre seçilerek çok dikkatli bir şekilde okunmalıdır. Okumaya, genel başvuru kaynaklarından, bibliyografyalardan ve o konuyu daha önce işlemiş kitaplardan başlamakta yarar vardır. Okurken bir taraftan da usulüne uygun olarak not alınmalıdır. Not ne kadar iyi alınırsa araştırmanın yazılması o derecede kolaylaşır. </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sürecinde okunan kaynaklardan alınan notlar, kaynağı tam olarak gösterilmek kaydıyla, numara verilerek (genellikle) 10x15 cm ebadındaki bilgi fişlerine yazılır. Aynı fişe birden fazla bilgi işlememeye özen gösterilmelidir. Alınan not, kâğıdın ön yüzüne sığmamışsa arka yüzüne geçilmemeli, ayrı bir fiş kullanılarak bunlar birleştir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826560" y="476280"/>
            <a:ext cx="7993080" cy="561672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5. Notları Düzenleme</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aynakların taranması bittikten sonra, alınan notlar plâna göre bir sıraya konur. Notların, düzenli olarak, plâna uygun şekilde sıralanması yazma işini kolaylaştıracakt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cıların işini kolaylaştırmak üzere; notlar almak ve bu notları değişik ölçütlere göre sıraya koymak için hazırlanan ve kullanımı çok basit olan bilgisayar programları da vardır. Bu programlar yardımıyla notların düzenlenmesi ve istendiği şekilde sıralanması daha kolay ve çabuk ol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20:31:35Z</dcterms:created>
  <dc:creator>tuba</dc:creator>
  <dc:description/>
  <dc:language>en-US</dc:language>
  <cp:lastModifiedBy>pc</cp:lastModifiedBy>
  <dcterms:modified xsi:type="dcterms:W3CDTF">2018-05-04T17:27:08Z</dcterms:modified>
  <cp:revision>15</cp:revision>
  <dc:subject/>
  <dc:title>Slayt 1</dc:title>
</cp:coreProperties>
</file>